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67F8-A6D4-443E-BD34-3A6CC8B98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FBE7-66CC-46AB-982C-7D1514ED7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AB07-11BB-4E6E-B471-E5BF53182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F000-CA14-45D5-A6A1-325941950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03A4D-F315-4954-A29F-169F874D6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9F30C-C91D-4317-A69B-2900C56A0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CAB50-2824-48F2-AB97-2CA7E0461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6AEB3-375C-4555-81C2-591BD0F6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11730-9E56-4C9F-B1BF-5A174DFF9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A0AB3-39D2-40A7-B247-9FEA96387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90F2E-996C-4B4E-B9E9-2361581D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32D7-91F5-4511-A895-8C9105238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790BD-365B-42A0-9BAA-96B3ED63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19197-AB22-4251-9965-0994F85A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4C987-41CF-44D0-80A9-8B6BC0C5B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B5737-DB61-49B5-9D03-B39D38577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CACD1-2664-4A32-B7BF-96954E240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05D0-B0A5-4757-A98D-64B15BC3E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45FC-76A7-41BC-B323-57ED48CD2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2C49-8DF8-4765-8F62-025245779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A13E-E6FA-4897-A0C3-79985363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3FF1-6C07-43D3-8193-E081C91B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E2D9-3011-47FB-9A56-719DE32F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52DC-9C95-4759-BA0E-0B26C3D9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CB95C-ADD3-4666-9AFA-BF6571E36B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E220D-060B-4699-9EC7-318CFFD208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nn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ty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bout Ann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na is my friend she is nice she like’s to swim just like me 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NNA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na IS REALLY PRITY 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4T14:51:16Z</dcterms:created>
  <dc:creator>Yellow Springs Exempted Village School District</dc:creator>
  <dc:description/>
  <dc:language>en-US</dc:language>
  <cp:lastModifiedBy>Yellow Springs Exempted Village School District</cp:lastModifiedBy>
  <dcterms:modified xsi:type="dcterms:W3CDTF">2012-01-24T15:00:13Z</dcterms:modified>
  <cp:revision>2</cp:revision>
  <dc:subject/>
  <dc:title>Anna</dc:title>
</cp:coreProperties>
</file>